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E74-C98D-4CB0-BD17-1D1A9576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314-45F0-4DE4-866D-70DB2EF2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F00-9899-47BD-BB06-4468361E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142-A98A-4C65-BC8D-3543D478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3F0-FEBD-40C8-95BC-91D1DD5F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1C6-BDAF-4988-9F7F-4802CB15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A9A-C9B4-4E86-9D61-6A4CF539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286-8DFD-4F7C-A6C5-B4D2F530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E2C-3603-4231-AD38-CB2A3B49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47D-9E4F-46F6-B11F-8EC5311C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322-5B57-4D59-BF2E-FE011F62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BB20-2853-4E42-9318-1A49357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984A-70A2-42B5-97B3-4651BFAB6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3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АНАЛИЗ</a:t>
            </a:r>
            <a:br>
              <a:rPr sz="44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БОТЫ АВТОМОБИЛЬНОГО ТРАНСПОРТА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П г.ОМСКА «ТЕПЛОВАЯ КОМПАНИЯ»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 СПУТНИКОВОЙ НАВИГАЦИЕЙ «АвтоГРАФ-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SM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5130720"/>
            <a:ext cx="8351640" cy="172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решению администрации предприятия в целях снижения затрат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эффективности  использования автотранспорта и  упорядочивания транспортных услуг для подразделений  на автомобилях АТЦ были установлены системы спутниковой навиг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50000">
              <a:srgbClr val="7575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АВНИТЕЛЬНЫЙ АНАЛИЗ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обега автомобилей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период апрель – октябрь 2007-2008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4360" y="1700280"/>
          <a:ext cx="7839000" cy="33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839000" cy="3371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6633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280" y="5105160"/>
            <a:ext cx="7777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Если в 2007 году за этот период общий пробег составил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1114083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км, то в 2008 году за этот же период общий пробег составляет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668412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км. Востребованность транспорта не была снижена, но значительно повысилась эффективность использования автотранспортной техники и качество выбора оптимальных маршрутов движения. Таким образом, в следствии оптимизации маршрутов движения автотранспорта и утвержденных мероприятий по сокращению пробегов автотранспортных единиц,  экономия пробега составила - 60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465e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РАВНИТЕЛЬНЫЙ АНАЛИЗ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расхода бензина (в литрах)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за период апрель - октябрь 2007-2008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1628640"/>
          <a:ext cx="7467840" cy="35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28640"/>
                    <a:ext cx="7467840" cy="3548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006600"/>
                    </a:outerShdw>
                  </a:effectLst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0000" y="5373720"/>
            <a:ext cx="73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Расход бензина, как топлива в 2007году за период с апреля по октябрь месяц на автомобилях до установки  спутниковой навигацией  составил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7817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литров, в 2008 году за тот же период фактический  расход топлива составил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326,6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литров, что составляет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5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% экономии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5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3276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СРАВНИТЕЛЬНЫЙ АНАЛИЗ</a:t>
            </a:r>
            <a:br>
              <a:rPr sz="2200"/>
            </a:b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расхода газа, как топлива (в литра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6920" y="1773360"/>
          <a:ext cx="755352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7553520" cy="3429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6633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5373360"/>
            <a:ext cx="749016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ход газа за данный период в 2007 году составил –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331142,7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, в 2008 году –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124052,3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. На диаграмме видно, что расход газа, как топлива, в 2008 году уменьшился на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62%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следствии рационального использования автотранспорта и уменьшения пробега автоеди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РАВНИТЕЛЬНЫЙ АНАЛИЗ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расхода дизельного топлива (в литрах)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за период апрель - октябрь 2007-2008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640" y="5445000"/>
            <a:ext cx="8064720" cy="1224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ход диз.топлива, в 2007году за период с апреля по октябрь месяц на автомобилях до установки  спутниковой навигацией  составил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9981,98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тров, в 2008 году за тот же период фактический  расход топлива составил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6359,49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тров, что составляет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% экономии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1700280"/>
          <a:ext cx="7731000" cy="34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731000" cy="347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333399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p:transition spd="med" advTm="0"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2f7575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РАВНИТЕЛЬНЫЙ АНАЛИЗ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количества рабочих дней </a:t>
            </a:r>
            <a:br>
              <a:rPr sz="2400"/>
            </a:b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за период апрель - октябрь 2007-2008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7984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1700280"/>
          <a:ext cx="7993080" cy="368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993080" cy="3686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333399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55640" y="5516280"/>
            <a:ext cx="78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Количество рабочих дней в 2007году за период с апреля по октябрь месяц на автомобилях до установки  спутниковой навигацией  составил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10065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дней, в 2008 году за тот же период -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9389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 дней, что составляет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 % экономии рабочего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2:46:30Z</dcterms:created>
  <dc:creator>Вероника</dc:creator>
  <dc:description/>
  <dc:language>en-US</dc:language>
  <cp:lastModifiedBy>xxx</cp:lastModifiedBy>
  <dcterms:modified xsi:type="dcterms:W3CDTF">2009-03-24T09:17:52Z</dcterms:modified>
  <cp:revision>50</cp:revision>
  <dc:subject/>
  <dc:title>АНАЛИЗ РАБОТЫ АВТОМОБИЛЬНОГО ТРАНСПОРТА МП г.ОМСКА «ТЕПЛОВАЯ КОМПАНИЯ» СО СПУТНИКОВОЙ НАВИГАЦИЕЙ</dc:title>
</cp:coreProperties>
</file>